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4004"/>
        <c:axId val="80228533"/>
      </c:barChart>
      <c:catAx>
        <c:axId val="7934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28533"/>
        <c:crosses val="autoZero"/>
        <c:auto val="1"/>
        <c:lblAlgn val="ctr"/>
        <c:lblOffset val="100"/>
        <c:noMultiLvlLbl val="0"/>
      </c:catAx>
      <c:valAx>
        <c:axId val="80228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4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660-C038-4BC9-8030-C147EF62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6BB-82CA-4FF7-9423-746E8CBE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F55-9C4E-4826-840B-0FDDF167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6E6-DDDC-4F75-90C4-49B1D624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E3F-0374-4BA1-9FF7-C338EAE9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E78-67BE-4208-8A77-32AB1AE0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146-5288-4654-9F1B-0EE8F52C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0F8-FC77-445F-ADFA-36E65A06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B04-5EC6-4F3D-83A7-0DF8A6E4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671-95CB-4535-95C5-0B9A749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0A8-45FC-49E2-8123-C45A0ACD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715-7EF6-4342-8666-9AFF9452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26AB7-3BFD-414B-9A17-67E9CCF43C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