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0163724"/>
        <c:axId val="62616751"/>
      </c:barChart>
      <c:catAx>
        <c:axId val="9016372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616751"/>
        <c:crosses val="autoZero"/>
        <c:auto val="1"/>
        <c:lblAlgn val="ctr"/>
        <c:lblOffset val="100"/>
        <c:noMultiLvlLbl val="0"/>
      </c:catAx>
      <c:valAx>
        <c:axId val="6261675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16372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EB1CB-4C92-4447-A172-8C62AD72F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96501-D72F-4B0B-BBC6-E990CF39D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34FA7-F9A4-474B-AB10-CE04A404F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A5E93-DEBB-4BCD-8F85-5C02A3274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368CD-C91D-4EE4-844E-F858CAB6B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27BAA-9009-4BA6-A2C3-096E224B3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DE34B-DA2C-4FF5-879E-CD990402D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88250-065B-4E7F-9A0E-CE58056FE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773A9-A95F-4B35-A8E6-BCBCFC294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A9FFC-86F7-49EB-9FC8-C95BB6431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48960-D155-43A2-A518-0604C91CE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DBDC2-092B-4BBE-81F0-8515C6924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E376EB-425C-4D5A-8994-E0C5A3C726F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