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30660"/>
        <c:axId val="27399772"/>
      </c:barChart>
      <c:catAx>
        <c:axId val="86430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99772"/>
        <c:crosses val="autoZero"/>
        <c:auto val="1"/>
        <c:lblAlgn val="ctr"/>
        <c:lblOffset val="100"/>
        <c:noMultiLvlLbl val="0"/>
      </c:catAx>
      <c:valAx>
        <c:axId val="27399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30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3ED-6290-4A63-B818-B18F4C8D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B73-2EE4-414C-AEC0-20BBD05D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883-AA0A-4A8D-A256-9726D9AE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BE3-0B26-4A7B-89BF-2DC8B437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58F-1A77-46ED-82C7-9069C961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501-591A-4055-BADD-8B68D0FB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4DB-CDEE-4F6D-A13D-FE4BF1DD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2C4-7B0A-4311-BAC4-99A76E20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45E-86A6-4C88-A4C4-0435FE0F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AF8-B848-462D-8DF8-65CD9257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61F-CD19-41F0-BF63-0DA6BA69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246-C3D3-4FE7-BE4E-6FCA941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79EBE-D97B-4FFA-985E-5C71801FEC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