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27527"/>
        <c:axId val="66924021"/>
      </c:barChart>
      <c:catAx>
        <c:axId val="34727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24021"/>
        <c:crosses val="autoZero"/>
        <c:auto val="1"/>
        <c:lblAlgn val="ctr"/>
        <c:lblOffset val="100"/>
        <c:noMultiLvlLbl val="0"/>
      </c:catAx>
      <c:valAx>
        <c:axId val="66924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27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F8E-B00C-46AC-A486-D017FAEF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D28-1221-48B6-AA26-20D5E07A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09B-720D-4D45-8486-E4E05486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611-5449-4E59-85AA-4CA21BA0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DDC-5825-41D7-A5AC-A17422B4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775-DA21-4586-B6A7-FE9C5D7D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E9A-F601-459F-8A07-2368E4B3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419-86A9-40D5-8E7B-AA0D3137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A75-F900-46C9-B921-79F37669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968-C94C-456B-9BA2-E998A5D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CEA-9DA4-47BC-9F83-A7CC9BA2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62B-7523-4DF2-B5DF-39E47B98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872EF-94CA-4533-AA5E-47C2801692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