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932168"/>
        <c:axId val="47469552"/>
      </c:barChart>
      <c:catAx>
        <c:axId val="209321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69552"/>
        <c:crosses val="autoZero"/>
        <c:auto val="1"/>
        <c:lblAlgn val="ctr"/>
        <c:lblOffset val="100"/>
        <c:noMultiLvlLbl val="0"/>
      </c:catAx>
      <c:valAx>
        <c:axId val="4746955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9321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500-2ABB-4E1C-A399-7B99CBD11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04493-4FFA-4382-BB85-C82C26A99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47391-8DCD-432C-A7B4-F82B90189E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DC91D-59DB-4ADB-A2C3-1B8140FA5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8B34E-E26E-403A-AF30-4B37A3DA9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4774-1960-4B74-A0FC-FA9DA8CB1D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87FC-8320-413D-B2D8-97805D639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AD8E92-530C-451A-8918-8BC2E7016D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30D62-E227-4B38-AC1A-98D79A48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73F8-EAFD-4CD7-928E-359D68D79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A62D-CED3-4261-96D5-95162BE87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AE769-E368-4D01-959C-85E8F8EAA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E35A55-1F92-4947-88D8-6EE6AE28FE7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